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91A-2EF9-44DE-A746-79977ACA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E43-1A24-4532-8F6E-FC849433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509-8EBA-4276-A224-8A7F4B62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AFF-0135-4048-B9B7-0DBF4400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50D-9AE5-47D1-B71C-4C5C4610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7A6-451F-4CF7-BC48-10230627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6D3-8EA2-47DD-BAE9-B4DA7600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071-8BB1-4AB7-A58F-654AA54E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C11-8C7A-47F8-B0B8-58FBB2A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B4D-988C-498C-932B-92310255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EEB-2842-4B8D-A39C-987B2C3E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E34-40E1-4266-A9E5-3C8F42CB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DF39-A308-4AE5-BA72-80CBD06E5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501422dASCxiXjMA_ph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87692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لولاك... من كانَ يحملْ همّي يا يس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لولاك... كنتُ قضيتُ كلَّ عمري بالدم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طريقي كانت ضَيَاع نصيبي كان الجح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وكم لبستُ من قناع لأُخْفِي جرحيَ الأليم</a:t>
            </a:r>
            <a:r>
              <a:rPr b="0" lang="ar-SA" sz="2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24937uKhisKVkwI_ph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572000" cy="89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ولاك... من كان يمشي دربَ الجلج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ولاك... من كان سوف يحملُ الصل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جلد كان لي... الصلب كان لي... الموت كان ل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رتضيتَ أنت تأخذَ مكاني يا يس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كي تكون لي الحياة أتيتَ يا يسوع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7464747OSrAOXwLFa_ph" descr=""/>
          <p:cNvPicPr/>
          <p:nvPr/>
        </p:nvPicPr>
        <p:blipFill>
          <a:blip r:embed="rId1"/>
          <a:stretch/>
        </p:blipFill>
        <p:spPr>
          <a:xfrm>
            <a:off x="3724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34290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أحبك... أحبك...أحبك... حبيبي يا يس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شكرا لك...مجداً لك ... لك السجودُ وحدك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0:01:37Z</dcterms:created>
  <dc:creator>SUZANNE.MD</dc:creator>
  <dc:description/>
  <dc:language>en-US</dc:language>
  <cp:lastModifiedBy>SUZANNE.MD</cp:lastModifiedBy>
  <dcterms:modified xsi:type="dcterms:W3CDTF">2003-03-16T10:14:02Z</dcterms:modified>
  <cp:revision>1</cp:revision>
  <dc:subject/>
  <dc:title>PowerPoint Presentation</dc:title>
</cp:coreProperties>
</file>